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C436-A867-4B48-9C62-D39A55C54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1FCE-B36B-4195-9EFE-279E4D791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04920" y="533520"/>
            <a:ext cx="6248160" cy="468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42720" y="5462280"/>
            <a:ext cx="617220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E875-57F7-42B1-942E-D3823CF84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04920" y="533520"/>
            <a:ext cx="6248160" cy="468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42720" y="5462280"/>
            <a:ext cx="617220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6494-1035-464B-BC5C-AC4F5DFD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85E6-6226-42F3-BB0B-23C478B1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33B9-0E5F-4680-9CC6-9A8083CF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CAF4-1F90-427A-9211-46EE9399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69160-9AD2-4CDD-A34A-D5DF16EC89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AB592-55C6-4F4E-B724-31004EFD40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7DB8D-259E-4FC6-AC8B-C2F439D479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8D1DD-E170-42DE-8E37-CFF101FED6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C8733-0DEA-4D05-A3A6-21EA033B53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F1AC7-388B-496B-8E90-D250F0BEBB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5FC3B-4EF4-42CF-B87B-F02E91B4B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9A24-8E64-458F-957A-53545D7F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45CC6-D3C6-4E87-9AFD-3A8CA30EF2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37ED3-41EC-457B-B612-F413C4EA7F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CC416-C913-4EA9-9AC8-8499835FE8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31750-4F21-4486-A062-E840B5D656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F8FC6-E521-49ED-BDEF-507871CB9C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E5F60-E9DF-4794-BC0A-9A66E3D2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2145B-B1FD-4BDE-9C78-54058052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5E98A-4237-4416-A2FC-71076E53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DEF84-5965-4657-B9B5-3D6FBF2B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1D7E9-AAB9-4249-B08E-67ADB202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011C-10CF-4A61-BE72-8DE1A56D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10707-C159-45F7-A550-4E3C6C68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2BF3E-A416-4DC6-85C2-FB07E61E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970C0-C0E5-4AD2-B87C-2469B30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31A91-6D60-472E-B053-FFC1919C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C4BA7-8190-409B-814D-7B3677F9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E668F-963E-400E-85FE-48C32F68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00FFC-020A-4C63-BD0F-B8555B0E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11F1-0268-4E01-AC36-3B9229DD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737D-F83C-4569-AA60-02C87535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655C-80A8-4FEC-8231-DBBD37CE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E0E3-4873-449E-AB4A-7CEBC693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901C-04BF-445C-A990-9CA9E8B1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929A-BD6C-43F4-A2A5-4A906D82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61CF-F9B3-44B7-B9F0-4C8D2E0D5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AD9B-AC19-4140-AA7F-8362380F4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B012-E882-4E42-BC84-C5D838ED0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C6A7E-5138-4ED9-89AE-BE99095C4558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4768560" y="3275280"/>
            <a:ext cx="2670120" cy="2493360"/>
            <a:chOff x="4768560" y="327528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4768560" y="327528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029200" y="4518000"/>
              <a:ext cx="2409480" cy="1250640"/>
              <a:chOff x="5029200" y="451800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029200" y="45180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158800" y="45986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Vision for 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4491-00BF-47AE-9D7F-D1B3F42FA95C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8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8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8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Vision for 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F582-2B59-4D60-9197-EB68049AF1E1}" type="slidenum">
              <a:t>3</a:t>
            </a:fld>
          </a:p>
        </p:txBody>
      </p: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Student Access to Information Specialist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School Library Media Center in every schoo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School Library Media Specialist in every Library Media Center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-77040" y="-57960"/>
            <a:ext cx="4245480" cy="1785240"/>
            <a:chOff x="-77040" y="-57960"/>
            <a:chExt cx="4245480" cy="1785240"/>
          </a:xfrm>
        </p:grpSpPr>
        <p:sp>
          <p:nvSpPr>
            <p:cNvPr id="194" name=""/>
            <p:cNvSpPr/>
            <p:nvPr/>
          </p:nvSpPr>
          <p:spPr>
            <a:xfrm flipH="1">
              <a:off x="1310760" y="515520"/>
              <a:ext cx="2857680" cy="25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-77040" y="-57960"/>
              <a:ext cx="2572560" cy="1785240"/>
              <a:chOff x="-77040" y="-57960"/>
              <a:chExt cx="2572560" cy="1785240"/>
            </a:xfrm>
          </p:grpSpPr>
          <p:sp>
            <p:nvSpPr>
              <p:cNvPr id="196" name=""/>
              <p:cNvSpPr/>
              <p:nvPr/>
            </p:nvSpPr>
            <p:spPr>
              <a:xfrm rot="20564400">
                <a:off x="39600" y="2631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20564400">
                <a:off x="164880" y="33768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3796-5369-4F5C-B5B1-DC1E10264859}" type="slidenum">
              <a:t>4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dvocacy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Winning compliance </a:t>
            </a:r>
            <a:br>
              <a:rPr sz="40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in meeting Regulations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201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203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AC9B-22A0-4C21-AE45-EFA0D1713FA0}" type="slidenum">
              <a:t>5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Winning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Administrative Support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208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210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D6C5-D12B-49AB-8640-19CDDD8B2982}" type="slidenum">
              <a:t>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4-24T23:26:49Z</dcterms:modified>
  <cp:revision>103</cp:revision>
  <dc:subject/>
  <dc:title>Work Group Question here</dc:title>
</cp:coreProperties>
</file>